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.jpeg" ContentType="image/jpeg"/>
  <Override PartName="/ppt/media/laser.wav" ContentType="audio/x-wav"/>
  <Override PartName="/ppt/media/image4.jpeg" ContentType="image/jpeg"/>
  <Override PartName="/ppt/media/voltage.wav" ContentType="audio/x-wav"/>
  <Override PartName="/ppt/media/image1.jpeg" ContentType="image/jpeg"/>
  <Override PartName="/ppt/media/camera.wav" ContentType="audio/x-wav"/>
  <Override PartName="/ppt/media/explode.wav" ContentType="audio/x-wav"/>
  <Override PartName="/ppt/media/wind.wav" ContentType="audio/x-wav"/>
  <Override PartName="/ppt/media/chimes.wav" ContentType="audio/x-wav"/>
  <Override PartName="/ppt/media/image2.jpeg" ContentType="image/jpeg"/>
  <Override PartName="/ppt/media/applause.wav" ContentType="audio/x-wav"/>
  <Override PartName="/ppt/media/breeze.wav" ContentType="audio/x-wav"/>
  <Override PartName="/ppt/media/drumroll.wav" ContentType="audio/x-wav"/>
  <Override PartName="/ppt/media/image3.jpeg" ContentType="image/jpeg"/>
  <Override PartName="/ppt/media/hammer.wav" ContentType="audio/x-wav"/>
  <Override PartName="/ppt/media/cashre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FBF-C9AF-4FB0-BBFC-7F4C39EC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0E1-D53E-47FB-A2DE-27A77CFF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AA9-C55C-46BD-8AE0-A983D7CD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8A1-A5EE-4378-950F-D7757A7B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421-273E-4D1A-9CAC-E96DCF77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355-D6CA-4AD6-98CB-B7D1CE5A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D6D-2684-4AC8-A3FC-5E490A3A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F65-4F97-46B4-A564-B39C7841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33B-4A6D-4734-A7FE-79A60D40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FD2-DC6B-4C13-A06C-C495C112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FA4-6A54-4F55-9E99-B5E2E22C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6EF-E544-491A-9239-80B7DCEB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3BCB-1F2E-4955-A648-83A3EF5E8C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Khmer Kingdo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QUENTIN BROWN  and THOMAS LUNG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lus/>
    <p:sndAc>
      <p:stSnd>
        <p:snd r:embed="rId1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1120 About Angkor Wat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gkor Wat were magnificent towers. It was later put on the countries fla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1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vaders destroy the capital city of Angk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Content Placeholder 3" descr="Angkor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 1431 Invaders destroy the capital city of Angk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ai destroyed the capital Angkor. The people of the Khmer kingdom never recovered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lus/>
    <p:sndAc>
      <p:stSnd>
        <p:snd r:embed="rId1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tra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gkor shows that the people of Khmer can build amazing thing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reason people put Angkor Wat on the flag is to show cultu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eople of Khmer were able to build the amazing structure  is because the people had faith in there k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ull dir="ld"/>
    <p:sndAc>
      <p:stSnd>
        <p:snd r:embed="rId1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IDE SHOW B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omas Lung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uentin Brow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NKS FOR WATC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diamond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ograph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Khmer kingdom was located in the Indochina peninsula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out"/>
    <p:sndAc>
      <p:stSnd>
        <p:snd r:embed="rId1" name="hammer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Econom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rrigation system was the key to the success of the Khmer econom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ring the monsoon season the large reservoirs   levees  moats and ponds helped prevent the flood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ayavarman the 2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Content Placeholder 3" descr="images.jpg"/>
          <p:cNvPicPr/>
          <p:nvPr/>
        </p:nvPicPr>
        <p:blipFill>
          <a:blip r:embed="rId1"/>
          <a:stretch/>
        </p:blipFill>
        <p:spPr>
          <a:xfrm>
            <a:off x="685800" y="1523880"/>
            <a:ext cx="7467480" cy="48006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 802 Jayavarman the 2nd reunites the kingdom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reunited the kingdom in 802. He was crowned king according to Hindu rites, which declared he was a Deva-raja or god king. He used his power to m form large armies to defend the kingdom and invade other area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heel spokes="8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A Deva-Ra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Deva-Raja is a god king. That had all power and controlled every part in socie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used the power to make armies to defend the kingdom and invade other area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lso used the power to make large temples.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heel spokes="1"/>
    <p:sndAc>
      <p:stSnd>
        <p:snd r:embed="rId1" name="breez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yavarman the 2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Content Placeholder 3" descr="24LPCAVM85CJCAAV55XCCA2CVM89CAN1XC8BCAJQ8L76CA16U0VACAC0MKT3CAUVTJWRCACE5O23CAYRPKRPCAL3Z88XCAALPK7DCAG3S22XCAK2CI4JCABG87TLCAP34CFFCA8O35JGCAJB3CJWCAD0NPQV.jpg"/>
          <p:cNvPicPr/>
          <p:nvPr/>
        </p:nvPicPr>
        <p:blipFill>
          <a:blip r:embed="rId1"/>
          <a:stretch/>
        </p:blipFill>
        <p:spPr>
          <a:xfrm>
            <a:off x="0" y="1447920"/>
            <a:ext cx="9221760" cy="53053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 1113 Suryavarman the 2nd takes the throne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mpire reached his peak in the twelfth century under his rule. He also oversaw the construction of Angkor Wa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zoom dir="in"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gkor Wat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Content Placeholder 3" descr="Angkor Wat.jpg"/>
          <p:cNvPicPr/>
          <p:nvPr/>
        </p:nvPicPr>
        <p:blipFill>
          <a:blip r:embed="rId1"/>
          <a:stretch/>
        </p:blipFill>
        <p:spPr>
          <a:xfrm>
            <a:off x="0" y="1450800"/>
            <a:ext cx="9144000" cy="54072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4:16:33Z</dcterms:created>
  <dc:creator>tlunger</dc:creator>
  <dc:description/>
  <dc:language>en-US</dc:language>
  <cp:lastModifiedBy>tlunger</cp:lastModifiedBy>
  <dcterms:modified xsi:type="dcterms:W3CDTF">2011-02-11T14:19:41Z</dcterms:modified>
  <cp:revision>7</cp:revision>
  <dc:subject/>
  <dc:title>The Khmer Kingdom </dc:title>
</cp:coreProperties>
</file>